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2293-8E6E-419A-98C0-99C9E20E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2A8A-C9C4-4885-A411-EC786D4D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1249-3675-4720-AE18-56E2B388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6F16-B00C-4EFA-BCF2-82855828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686D-EA12-409C-87ED-1E22AC6D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3943-EBA0-48FC-8EE9-F514833D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2DFA-097D-4511-8015-395A57AB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8BF3-411B-490A-94AA-3651434C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86D1-4835-46A5-8DE4-58D80BAB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2B4F-373A-4FC9-8891-F05910C4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A5A8-CD0C-49B6-93D3-EA7C82F9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BB3-A50C-4B91-9463-EC068A0F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E34E-6F98-44E5-8A97-4CD26557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642D-64F8-4734-99B0-831E392B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5D30-D6F6-4D1A-B501-389C1E63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7C79-C5DB-4C50-A9BF-CE9CE920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D06D-B03B-4D4C-81A2-6F85BABD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078D-08BA-4B9B-926A-26636939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B95B-D08D-484E-8ADF-97D72F16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71A7-0DDD-4B18-BF1B-22346A62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05C0-4AC2-4D66-B9E8-DD11370F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8CFD-582D-4B0E-8204-7966FF82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B9DE-9805-4A3C-8B76-2C72115F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135F-2EB3-4F6B-A914-BAD12045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C988-A812-4E3C-AC96-6D8076228D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81280" y="1752120"/>
            <a:ext cx="51055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BE27-D897-47B6-A81A-5A5A9F5D7D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21552000">
            <a:off x="4266720" y="2895120"/>
            <a:ext cx="4038840" cy="1752840"/>
          </a:xfrm>
          <a:prstGeom prst="rect">
            <a:avLst/>
          </a:prstGeom>
          <a:noFill/>
          <a:ln w="0">
            <a:noFill/>
          </a:ln>
          <a:effectLst>
            <a:outerShdw dist="12904" dir="1808483" blurRad="0" rotWithShape="0">
              <a:srgbClr val="00000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6400" spc="-1" strike="noStrike">
                <a:solidFill>
                  <a:srgbClr val="eeff39"/>
                </a:solidFill>
                <a:latin typeface="Times New Roman"/>
              </a:rPr>
              <a:t>n</a:t>
            </a: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6400" spc="-1" strike="noStrike">
                <a:solidFill>
                  <a:srgbClr val="eeff39"/>
                </a:solidFill>
                <a:latin typeface="Times New Roman"/>
              </a:rPr>
              <a:t>e</a:t>
            </a: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6400" spc="-1" strike="noStrike">
                <a:solidFill>
                  <a:srgbClr val="eeff39"/>
                </a:solidFill>
                <a:latin typeface="Times New Roman"/>
              </a:rPr>
              <a:t>t</a:t>
            </a: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6400" spc="-1" strike="noStrike">
                <a:solidFill>
                  <a:srgbClr val="eeff39"/>
                </a:solidFill>
                <a:latin typeface="Times New Roman"/>
              </a:rPr>
              <a:t>i</a:t>
            </a: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6400" spc="-1" strike="noStrike">
                <a:solidFill>
                  <a:srgbClr val="eeff39"/>
                </a:solidFill>
                <a:latin typeface="Times New Roman"/>
              </a:rPr>
              <a:t>e</a:t>
            </a: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s</a:t>
            </a:r>
            <a:br>
              <a:rPr sz="6400"/>
            </a:br>
            <a:r>
              <a:rPr b="0" lang="en-US" sz="6400" spc="-1" strike="noStrike">
                <a:solidFill>
                  <a:srgbClr val="eeff39"/>
                </a:solidFill>
                <a:latin typeface="Times New Roman"/>
              </a:rPr>
              <a:t>a</a:t>
            </a: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6400" spc="-1" strike="noStrike">
                <a:solidFill>
                  <a:srgbClr val="eeff39"/>
                </a:solidFill>
                <a:latin typeface="Times New Roman"/>
              </a:rPr>
              <a:t>d</a:t>
            </a: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6400" spc="-1" strike="noStrike">
                <a:solidFill>
                  <a:srgbClr val="eeff39"/>
                </a:solidFill>
                <a:latin typeface="Times New Roman"/>
              </a:rPr>
              <a:t>t</a:t>
            </a: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6400" spc="-1" strike="noStrike">
                <a:solidFill>
                  <a:srgbClr val="eeff39"/>
                </a:solidFill>
                <a:latin typeface="Times New Roman"/>
              </a:rPr>
              <a:t>n</a:t>
            </a: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6400" spc="-1" strike="noStrike">
                <a:solidFill>
                  <a:srgbClr val="eeff39"/>
                </a:solidFill>
                <a:latin typeface="Times New Roman"/>
              </a:rPr>
              <a:t>s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04960" y="5105160"/>
            <a:ext cx="5105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 and Tick Remo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96880" y="1143000"/>
            <a:ext cx="8547120" cy="5127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 rot="20875800">
            <a:off x="5486400" y="2133360"/>
            <a:ext cx="205740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81480" y="990360"/>
            <a:ext cx="281952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nsect </a:t>
            </a:r>
            <a:r>
              <a:rPr b="0" i="1" lang="en-US" sz="4800" spc="-1" strike="noStrike">
                <a:solidFill>
                  <a:srgbClr val="cc3300"/>
                </a:solidFill>
                <a:latin typeface="Times New Roman"/>
              </a:rPr>
              <a:t>Bite</a:t>
            </a:r>
            <a:br>
              <a:rPr sz="48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6880" y="274320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h the area of the b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a special lotion designed to treat insect b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114800" y="2590920"/>
            <a:ext cx="160020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5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d2d2"/>
                                      </p:to>
                                    </p:animClr>
                                    <p:animClr clrSpc="rgb">
                                      <p:cBhvr>
                                        <p:cTn id="32" dur="25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2d2d2"/>
                                      </p:to>
                                    </p:animClr>
                                    <p:set>
                                      <p:cBhvr>
                                        <p:cTn id="33" dur="25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8840" y="304560"/>
            <a:ext cx="335268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nsect Sting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7040" y="24382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ape against the sting with credit card or finger nail, trying to remove sti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something cold to sight of sting to relieve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ch for allergic side effects such as rash, difficulty breathing, or swelling of the face, neck, and ton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809880" y="4038480"/>
            <a:ext cx="16002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0" y="380880"/>
            <a:ext cx="37339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00"/>
                </a:solidFill>
                <a:latin typeface="Times New Roman"/>
              </a:rPr>
              <a:t>Tick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Removal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petroleum jelly or oil on the area where the tick is in order to not allow it to bre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tweezers close to the head of the tick and pull it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h the area with soap and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tick’s head breaks off seek medical atten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14240" y="24382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.........By Andrew Milli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ed...By Andrew Milli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nsored..By Andrew Milli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 from Mrs. Gar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r. 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3:17:23Z</dcterms:created>
  <dc:creator>Kraybill Campus LMS</dc:creator>
  <dc:description/>
  <dc:language>en-US</dc:language>
  <cp:lastModifiedBy>Kraybill Campus LMS</cp:lastModifiedBy>
  <dcterms:modified xsi:type="dcterms:W3CDTF">2011-05-23T12:59:50Z</dcterms:modified>
  <cp:revision>3</cp:revision>
  <dc:subject/>
  <dc:title>Insect Bites and Stings</dc:title>
</cp:coreProperties>
</file>